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ACC-B612-4D87-81E7-95B80638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640-6CFE-447A-A229-F431BA3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D6570-BD2B-430D-BCD6-548BB51A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6792C-40ED-4BB7-9CAF-440E318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A2E92-EB5B-48A4-8B7F-CA3D1A6F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9D820-345F-4ED6-A20C-902FBDE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3C412-8A64-40F8-9266-F763AD9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36BE5-8814-45D7-B6B9-551B993B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CDB9B-4AE0-4B7D-AF56-C5E8BAE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59C76-954C-4554-979E-DC4A6485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D1573-F221-43EA-96B5-1410954E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8C212-2C78-43A6-838D-197B5D9F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8A7-5378-4B85-858E-4E6A7CFE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B803E-AA80-4D58-9271-69332560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033E8-F0F2-415D-92C1-6C61AF0A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29092-AA23-4E21-A3C4-D65AFCDC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1C256-2546-4CB2-B481-F0226C67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D73DF-06D3-411F-964B-7B69C98C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123FF-19B8-43CB-B764-E3CB46A3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D13E8-FE95-46DB-AEBD-FF25916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9D9A1-ACD9-4B96-93DD-9EC302E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6C080-D1C7-4D7F-AD81-43089FEA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7507E-1914-459E-8238-EA13016E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9E2-3D57-4FA1-9A47-998B9E4C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36BCB-7928-4871-835E-A232B096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CABA-A374-4A2D-90DE-C21266F1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D523-4860-40B0-A55B-20BA1F74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E2F8-8EE6-418F-8736-87396632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333-B105-44CB-848D-4046177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F41C-A9CD-4022-AFC5-83CEF0A8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F5CF-8E82-4781-998B-91003F16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EDA8-1FFB-49E8-A8F0-84D0F12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939-FE87-4805-AD03-4FF40C7F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F379-D78C-4974-A93D-77EAFFF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C10-DB7D-4DAF-9ED0-DD53FD6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7531-BBC1-4A28-97E0-7A4177A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B8CE-A16D-4F01-9EFD-49DCE2D1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60A6-D4A3-465C-A787-D31EA4B3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C2CF-B13F-4FB0-AB53-63AB383F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9539-83F8-42A0-938B-0F314A9C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7481-CEFB-4710-8D55-8DA184EE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4990-087C-4AFF-965F-F5F77B83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B028-CF55-495F-A4EE-1ABFEE86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58D-2FCA-450B-9501-E582DFD8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4843-A812-4831-ADA0-F09044B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F77B-6D51-4AC9-99C7-2057E32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9234-1BC0-4A25-B772-59CB615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FF0C-D49F-4C1E-A8BE-EC5C3434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F6F9-8217-44D0-B708-D772E13C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E479-49F7-410B-A2D4-24DDCFC0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4CAF-2B73-4DA7-92DF-C7AD7527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BB6B4-32B3-459A-B416-7A2B6C23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5205C-FA96-49DD-981D-C945F6B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88E87-A72D-43D1-8009-189899B1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5D0-E7BA-4537-8B3F-9FE1EB7F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4B9D1-8E5F-4B95-B84B-45CE0B4A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B13FF-A6BC-4DB0-BCD6-0B1E6EA1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14641-1906-4FB7-B49A-0276B02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75987-3792-4339-A26E-FEE28D9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C3618-D289-4387-8A17-84841C48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4F0EE-88AA-4547-83A2-422A28E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34444-640C-4245-A1AA-08614F2C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4967D-A8EA-448A-8601-EA93094F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AA818-D21C-4833-8553-4B3D0A07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AE217-7855-42B4-B0B9-78759DD1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FD8-675F-4614-BCAA-0434683E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4819-3EBA-4297-AC61-C7412592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04A6B-4C8B-4AAD-AAD5-6678DD0E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09E97-30C9-4BC4-9C32-9BEB5B3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79B5E-55FB-4EA1-B6EB-C83D16E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F861-9987-438A-A0BD-1519890B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AC61C-DD1C-4B6A-AEED-0126B427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E930-5E95-4F89-B665-C2DA9748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6FBF-C191-4A0B-8F3B-1F5145B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6A06-C701-4326-8985-73F2FCED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B710-3733-4837-BD81-036C1B69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AB0-8101-450F-8DF3-F1109EB6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00471-41A1-40B0-A4EB-1AF524B0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C59EF-5759-4A3C-9E10-9112A0B7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7C7D3-158C-464D-AFE5-364D55D1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A4336-B12A-4D0E-8AFC-55F20615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ADBDE-E0A7-420F-B575-666B52D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9C52E-6153-40C5-974F-FD7E0962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F76B2-D2EC-4425-AD88-C3AE3D5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6D10A-143D-46D5-9D05-4961843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8F94D-9E54-4AAE-ABCA-CAB0341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68A64-229B-48DA-9DF0-23A0D59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1DF-FC78-4A1D-ABC0-3293B6C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A879E-B45D-458F-B2BB-13D9587C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75F21-A8EC-4FAF-8A51-A07366AA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3C79B-EE40-43BC-AE9B-05692897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78EAF-3917-4704-A9D0-43FF8573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70F94-46E0-44FC-A91F-0C869F0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04577-4226-4D07-B833-7A14D1CD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FCCC-72A3-4094-9428-B8A57F1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C053-4A50-4109-8BD4-5C1C6AA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B3FCD-EA7B-428C-9593-4ACA2D1A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4032-642F-4984-9E5C-868C66A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DC0-5BB7-4DCC-9FE8-035CE55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83F5-6199-4CCE-8BD2-03FADE3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09B2-B8BE-4BB6-B104-7E8030B1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098F5-4A72-4480-AF63-F6A9DCA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2074C-BD27-42EC-AAC7-0C27AB80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07C8-7D66-406D-BECD-3E974839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63A0-B5CA-4E59-BEEA-CDB3F376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BBFA5-3992-4503-9661-7709B38D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5A1F0-15FE-49B7-B0FC-2DE0F20F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8B8D-FB27-46CD-A126-1F599A89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5E42-761D-4999-8912-9280D89C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11B-67A0-4639-AE23-137F176F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AC823-1E95-48BF-A527-933F1E5B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FEEC-6C81-49E6-AA39-F84DB2A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28BC2-65A8-413E-8099-2C5796C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B58AD-34F1-4A15-AC92-BE3E37B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B6BF-3E94-45D9-8C10-F3189636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80AC-160C-4B56-A190-676878E6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70DB8-E8E3-450D-AD9A-E534A070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4622B-58F7-4A27-B54E-65E86B76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C8723-64FB-4289-B54D-253671D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029E1-BD01-4AFE-8C70-EAE2CBF6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4D11-C410-46E9-AF41-18CD3D20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7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7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8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8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9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3616-EF90-41A7-A235-7726A4B8A7A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44B7-47C6-43A1-95B4-952A8A2D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21B-768F-4081-9D34-5E4FF5A0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2A57-25C3-48B6-A89E-F6553B4E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7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D57C-0190-45F9-A9C5-2AB2A51E1A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3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4B8-3073-49AA-9422-014D155EAA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3D56-7896-46F2-84C8-277C4AE0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9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4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A279-E113-4926-9BF5-1C7481FF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9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9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0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0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C751-D524-45B1-BFCF-1725B0A223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Va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tel Palacio del Marqués de San Felipe y Santiago de Beju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6" name="" descr="Suite"/>
          <p:cNvPicPr/>
          <p:nvPr/>
        </p:nvPicPr>
        <p:blipFill>
          <a:blip r:embed="rId2"/>
          <a:stretch/>
        </p:blipFill>
        <p:spPr>
          <a:xfrm>
            <a:off x="0" y="4952880"/>
            <a:ext cx="3352680" cy="19051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3276720" y="1522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4"/>
          <a:stretch/>
        </p:blipFill>
        <p:spPr>
          <a:xfrm>
            <a:off x="6095880" y="495288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5"/>
          <a:stretch/>
        </p:blipFill>
        <p:spPr>
          <a:xfrm>
            <a:off x="3352680" y="4952880"/>
            <a:ext cx="2743200" cy="19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ridos Mama y Pap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a! El tiempo en Cuba es fantastico! Hace buen tiempo y hace sol y el sol es brilla. Hace calor. El mar esta muy caliente. Fui con mi ami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4381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s Actividad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i practicar los deportes y fui practicar el surfing y nade y bucee. Mire muchos animales aquaticos. No fui practicar el esqui y no fui Museo Nacional de la mus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idas Especi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je la camara y la traje de bano y gafas de natacion y ropa. Compre una camiseta y un sombr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35816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anish Vacation Proje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Jonathan Cunningh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1:15:08Z</dcterms:created>
  <dc:creator>SteveCunningham</dc:creator>
  <dc:description/>
  <dc:language>en-US</dc:language>
  <cp:lastModifiedBy>SteveCunningham</cp:lastModifiedBy>
  <dcterms:modified xsi:type="dcterms:W3CDTF">2011-12-06T02:22:15Z</dcterms:modified>
  <cp:revision>2</cp:revision>
  <dc:subject/>
  <dc:title>Mi Vacation</dc:title>
</cp:coreProperties>
</file>